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89E-B8A2-4967-8495-E2CC27C7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D2F-6799-405E-BB9F-01279E16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1F1-6FE9-43CD-A495-0BD441F4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9E3-AC7D-4061-85A4-73AD9146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2F8-74C1-4189-939E-B757066E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574-56AE-498C-ABAF-FAC23980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7DE-B393-4051-96D3-D8DEB590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767-72EF-4E73-A3A0-9156215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903-CB25-4928-AC1F-77BCD937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06C-C0CF-40BD-BD8A-752DE11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617-EB39-408C-BD13-0A32308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A46-A10C-4DFA-8A54-EAC61A1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741F-4E3C-42B2-B296-0FE85F7EDE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he/he wea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3716280"/>
            <a:ext cx="59691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A collection of images for use in teaching / describing clothing (in French but feel free to adapt for any 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Kate et Pippa Midd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at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ppa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5" descr="kate-middleton-wedding.jpg"/>
          <p:cNvPicPr/>
          <p:nvPr/>
        </p:nvPicPr>
        <p:blipFill>
          <a:blip r:embed="rId1"/>
          <a:stretch/>
        </p:blipFill>
        <p:spPr>
          <a:xfrm>
            <a:off x="3575160" y="1274760"/>
            <a:ext cx="51116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80" y="32220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La reine Elisabeth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rein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10" descr="queen-elizabeth-2-royal-wedding-590ssl042911.jpg"/>
          <p:cNvPicPr/>
          <p:nvPr/>
        </p:nvPicPr>
        <p:blipFill>
          <a:blip r:embed="rId1"/>
          <a:stretch/>
        </p:blipFill>
        <p:spPr>
          <a:xfrm>
            <a:off x="3808440" y="272880"/>
            <a:ext cx="49402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me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6" descr="ef85d6c2-9f59-46b6-a1a4-edc213_jpg_scaled980.jpg"/>
          <p:cNvPicPr/>
          <p:nvPr/>
        </p:nvPicPr>
        <p:blipFill>
          <a:blip r:embed="rId1"/>
          <a:stretch/>
        </p:blipFill>
        <p:spPr>
          <a:xfrm>
            <a:off x="3749760" y="1414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s portent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5" descr="5669295269_eda1ab8b64_b_jpg_scaled_1000.jpg"/>
          <p:cNvPicPr/>
          <p:nvPr/>
        </p:nvPicPr>
        <p:blipFill>
          <a:blip r:embed="rId1"/>
          <a:stretch/>
        </p:blipFill>
        <p:spPr>
          <a:xfrm>
            <a:off x="3419640" y="1211400"/>
            <a:ext cx="51116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Telma Ort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6" descr="TelmaOrtiz.jpg"/>
          <p:cNvPicPr/>
          <p:nvPr/>
        </p:nvPicPr>
        <p:blipFill>
          <a:blip r:embed="rId1"/>
          <a:stretch/>
        </p:blipFill>
        <p:spPr>
          <a:xfrm>
            <a:off x="4414680" y="476280"/>
            <a:ext cx="41180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helsy D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5" descr="001d0071-0000-0000-0000-000000000000_752821d3-f419-4088-b6e6-5d37299c6b30_20110429090904_article-1381800-0BD281B100000578-427_306x763.jpg"/>
          <p:cNvPicPr/>
          <p:nvPr/>
        </p:nvPicPr>
        <p:blipFill>
          <a:blip r:embed="rId1"/>
          <a:stretch/>
        </p:blipFill>
        <p:spPr>
          <a:xfrm>
            <a:off x="4954680" y="272880"/>
            <a:ext cx="23526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Zara Phil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image-12-royal-wedding-a-look-at-guests-dresses-201828539.jpg"/>
          <p:cNvPicPr/>
          <p:nvPr/>
        </p:nvPicPr>
        <p:blipFill>
          <a:blip r:embed="rId1"/>
          <a:stretch/>
        </p:blipFill>
        <p:spPr>
          <a:xfrm>
            <a:off x="5867280" y="549360"/>
            <a:ext cx="2024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Un homme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6" descr="96333_2.jpg"/>
          <p:cNvPicPr/>
          <p:nvPr/>
        </p:nvPicPr>
        <p:blipFill>
          <a:blip r:embed="rId1"/>
          <a:stretch/>
        </p:blipFill>
        <p:spPr>
          <a:xfrm>
            <a:off x="4230720" y="549360"/>
            <a:ext cx="4157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Joss 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joss stone.bmp"/>
          <p:cNvPicPr/>
          <p:nvPr/>
        </p:nvPicPr>
        <p:blipFill>
          <a:blip r:embed="rId1"/>
          <a:stretch/>
        </p:blipFill>
        <p:spPr>
          <a:xfrm>
            <a:off x="5135400" y="343080"/>
            <a:ext cx="1990800" cy="571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6100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avid et Samantha Cam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David-and-Samantha-Cameron_jpg_e_23abe66501078f41ad6851658d1e8d06.jpg"/>
          <p:cNvPicPr/>
          <p:nvPr/>
        </p:nvPicPr>
        <p:blipFill>
          <a:blip r:embed="rId1"/>
          <a:stretch/>
        </p:blipFill>
        <p:spPr>
          <a:xfrm>
            <a:off x="4427640" y="692280"/>
            <a:ext cx="39607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3940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Lady Tara Palmer-Tom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6" descr="TARA-PT-GETTY-stor_1883675a.jpg"/>
          <p:cNvPicPr/>
          <p:nvPr/>
        </p:nvPicPr>
        <p:blipFill>
          <a:blip r:embed="rId1"/>
          <a:stretch/>
        </p:blipFill>
        <p:spPr>
          <a:xfrm>
            <a:off x="4702320" y="1027080"/>
            <a:ext cx="285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iriam Cl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8" descr="nick_clegg_miriam_g_252500z.jpg"/>
          <p:cNvPicPr/>
          <p:nvPr/>
        </p:nvPicPr>
        <p:blipFill>
          <a:blip r:embed="rId1"/>
          <a:srcRect l="20662" t="0" r="33405" b="0"/>
          <a:stretch/>
        </p:blipFill>
        <p:spPr>
          <a:xfrm>
            <a:off x="4788000" y="549360"/>
            <a:ext cx="273672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incesse Eugenie et Princesse Be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geni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atric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Princess-Eugenie-and-Princess-Beatrice1.jpg"/>
          <p:cNvPicPr/>
          <p:nvPr/>
        </p:nvPicPr>
        <p:blipFill>
          <a:blip r:embed="rId1"/>
          <a:stretch/>
        </p:blipFill>
        <p:spPr>
          <a:xfrm>
            <a:off x="4932360" y="404640"/>
            <a:ext cx="3014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avid et Victoria Beckh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8" descr="beckhams_royal_wedding.jpg"/>
          <p:cNvPicPr/>
          <p:nvPr/>
        </p:nvPicPr>
        <p:blipFill>
          <a:blip r:embed="rId1"/>
          <a:srcRect l="24870" t="0" r="35269" b="0"/>
          <a:stretch/>
        </p:blipFill>
        <p:spPr>
          <a:xfrm>
            <a:off x="4427640" y="404640"/>
            <a:ext cx="30970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es fill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s portent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5" descr="article-1304085675797-0BD3595800000578-41429_466x310.jpg"/>
          <p:cNvPicPr/>
          <p:nvPr/>
        </p:nvPicPr>
        <p:blipFill>
          <a:blip r:embed="rId1"/>
          <a:stretch/>
        </p:blipFill>
        <p:spPr>
          <a:xfrm>
            <a:off x="3575160" y="1438200"/>
            <a:ext cx="51116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ince Harry et Prince Willi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ry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lliam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6" descr="mcx-prince-and-brother-in-church-de.jpg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9:58:07Z</dcterms:created>
  <dc:creator>Jo Rhys-Jones</dc:creator>
  <dc:description/>
  <dc:language>en-US</dc:language>
  <cp:lastModifiedBy>Jo Rhys-Jones</cp:lastModifiedBy>
  <dcterms:modified xsi:type="dcterms:W3CDTF">2011-05-01T10:38:45Z</dcterms:modified>
  <cp:revision>5</cp:revision>
  <dc:subject/>
  <dc:title>What is she/he wearing?</dc:title>
</cp:coreProperties>
</file>